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3596-6237-4E8D-8FF2-A42125199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C405-3769-459C-B16E-7E85E3986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DDD5-4F0F-4F58-8BF0-ADE46A77C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0795-690B-4537-B3DF-4A375DBC9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319B-29F8-4C98-82AE-3F77ABA55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B412-5506-4E5D-9216-36FABE5AB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BA83-68C5-4CD6-B92D-E6E26A3AE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025A-451C-4836-8AAD-09F95D3EB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F84A-8A5A-4921-8DEB-FA72D7558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B491-495D-43FF-B665-1CCF5A18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5C7D-E680-48A3-9AD8-C9527945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E5A4-64BE-4F68-8AD7-9EB8FDB1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6FF97-7483-40B0-AB28-9E2118851B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462f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9600" spc="-1" strike="noStrike">
                <a:solidFill>
                  <a:srgbClr val="000000"/>
                </a:solidFill>
                <a:latin typeface="Chiller"/>
              </a:rPr>
              <a:t>The pay gap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99"/>
            </a:gs>
            <a:gs pos="100000">
              <a:srgbClr val="c774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533520" y="228600"/>
            <a:ext cx="8305200" cy="6477120"/>
            <a:chOff x="533520" y="228600"/>
            <a:chExt cx="8305200" cy="6477120"/>
          </a:xfrm>
        </p:grpSpPr>
        <p:grpSp>
          <p:nvGrpSpPr>
            <p:cNvPr id="187" name=""/>
            <p:cNvGrpSpPr/>
            <p:nvPr/>
          </p:nvGrpSpPr>
          <p:grpSpPr>
            <a:xfrm>
              <a:off x="540360" y="232560"/>
              <a:ext cx="8289720" cy="6468120"/>
              <a:chOff x="540360" y="232560"/>
              <a:chExt cx="8289720" cy="646812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540360" y="232560"/>
                <a:ext cx="3728520" cy="687960"/>
                <a:chOff x="540360" y="232560"/>
                <a:chExt cx="3728520" cy="68796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645120" y="232560"/>
                  <a:ext cx="3519000" cy="68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6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Fiel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540360" y="232560"/>
                  <a:ext cx="3728520" cy="687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4269240" y="232560"/>
                <a:ext cx="1434960" cy="687960"/>
                <a:chOff x="4269240" y="232560"/>
                <a:chExt cx="1434960" cy="68796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4374000" y="232560"/>
                  <a:ext cx="1225440" cy="68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2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Women’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269240" y="232560"/>
                  <a:ext cx="1434960" cy="687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5704920" y="232560"/>
                <a:ext cx="1171800" cy="687960"/>
                <a:chOff x="5704920" y="232560"/>
                <a:chExt cx="1171800" cy="6879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08960" y="232560"/>
                  <a:ext cx="963360" cy="68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2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Men’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5704920" y="232560"/>
                  <a:ext cx="1171800" cy="687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6877080" y="232560"/>
                <a:ext cx="1953000" cy="687960"/>
                <a:chOff x="6877080" y="232560"/>
                <a:chExt cx="1953000" cy="68796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6981840" y="232560"/>
                  <a:ext cx="1743840" cy="68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Women’s Pay as % of Men’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6877080" y="232560"/>
                  <a:ext cx="1953000" cy="687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540360" y="920520"/>
                <a:ext cx="3728520" cy="550080"/>
                <a:chOff x="540360" y="920520"/>
                <a:chExt cx="3728520" cy="55008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645120" y="920520"/>
                  <a:ext cx="3519000" cy="55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6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Sales enginee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40360" y="920520"/>
                  <a:ext cx="3728520" cy="55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4269240" y="920520"/>
                <a:ext cx="1434960" cy="550080"/>
                <a:chOff x="4269240" y="920520"/>
                <a:chExt cx="1434960" cy="55008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4374000" y="920520"/>
                  <a:ext cx="1225440" cy="55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$89,908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4269240" y="920520"/>
                  <a:ext cx="1434960" cy="55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5704920" y="920520"/>
                <a:ext cx="1171800" cy="550080"/>
                <a:chOff x="5704920" y="920520"/>
                <a:chExt cx="1171800" cy="55008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5808960" y="920520"/>
                  <a:ext cx="963360" cy="55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$62,66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5704920" y="920520"/>
                  <a:ext cx="1171800" cy="55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6877080" y="920520"/>
                <a:ext cx="1953000" cy="550080"/>
                <a:chOff x="6877080" y="920520"/>
                <a:chExt cx="1953000" cy="55008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6981840" y="920520"/>
                  <a:ext cx="1743840" cy="55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143%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6877080" y="920520"/>
                  <a:ext cx="1953000" cy="55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540360" y="1470960"/>
                <a:ext cx="3728520" cy="550080"/>
                <a:chOff x="540360" y="1470960"/>
                <a:chExt cx="3728520" cy="55008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645120" y="1470960"/>
                  <a:ext cx="3519000" cy="55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6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Statistician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540360" y="1470960"/>
                  <a:ext cx="3728520" cy="55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4269240" y="1470960"/>
                <a:ext cx="1434960" cy="550080"/>
                <a:chOff x="4269240" y="1470960"/>
                <a:chExt cx="1434960" cy="55008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4374000" y="1470960"/>
                  <a:ext cx="1225440" cy="55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$49,14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269240" y="1470960"/>
                  <a:ext cx="1434960" cy="55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5704920" y="1470960"/>
                <a:ext cx="1171800" cy="550080"/>
                <a:chOff x="5704920" y="1470960"/>
                <a:chExt cx="1171800" cy="55008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5808960" y="1470960"/>
                  <a:ext cx="963360" cy="55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$36,29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704920" y="1470960"/>
                  <a:ext cx="1171800" cy="55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6877080" y="1470960"/>
                <a:ext cx="1953000" cy="550080"/>
                <a:chOff x="6877080" y="1470960"/>
                <a:chExt cx="1953000" cy="55008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6981840" y="1470960"/>
                  <a:ext cx="1743840" cy="55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135%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877080" y="1470960"/>
                  <a:ext cx="1953000" cy="55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540360" y="2021400"/>
                <a:ext cx="3728520" cy="550440"/>
                <a:chOff x="540360" y="2021400"/>
                <a:chExt cx="3728520" cy="55044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645120" y="2021400"/>
                  <a:ext cx="3519000" cy="55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6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Legislato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40360" y="2021400"/>
                  <a:ext cx="3728520" cy="550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4269240" y="2021400"/>
                <a:ext cx="1434960" cy="550440"/>
                <a:chOff x="4269240" y="2021400"/>
                <a:chExt cx="1434960" cy="55044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4374000" y="2021400"/>
                  <a:ext cx="1225440" cy="55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$43,31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4269240" y="2021400"/>
                  <a:ext cx="1434960" cy="550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5704920" y="2021400"/>
                <a:ext cx="1171800" cy="550440"/>
                <a:chOff x="5704920" y="2021400"/>
                <a:chExt cx="1171800" cy="55044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5808960" y="2021400"/>
                  <a:ext cx="963360" cy="55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$32,65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5704920" y="2021400"/>
                  <a:ext cx="1171800" cy="550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6877080" y="2021400"/>
                <a:ext cx="1953000" cy="550440"/>
                <a:chOff x="6877080" y="2021400"/>
                <a:chExt cx="1953000" cy="55044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6981840" y="2021400"/>
                  <a:ext cx="1743840" cy="55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133%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6877080" y="2021400"/>
                  <a:ext cx="1953000" cy="550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540360" y="2572200"/>
                <a:ext cx="3728520" cy="550080"/>
                <a:chOff x="540360" y="2572200"/>
                <a:chExt cx="3728520" cy="55008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645120" y="2572200"/>
                  <a:ext cx="3519000" cy="55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4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Automotive technicians and mechanic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540360" y="2572200"/>
                  <a:ext cx="3728520" cy="55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4269240" y="2572200"/>
                <a:ext cx="1434960" cy="550080"/>
                <a:chOff x="4269240" y="2572200"/>
                <a:chExt cx="1434960" cy="55008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4374000" y="2572200"/>
                  <a:ext cx="1225440" cy="55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$40,66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4269240" y="2572200"/>
                  <a:ext cx="1434960" cy="55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5704920" y="2572200"/>
                <a:ext cx="1171800" cy="550080"/>
                <a:chOff x="5704920" y="2572200"/>
                <a:chExt cx="1171800" cy="55008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5808960" y="2572200"/>
                  <a:ext cx="963360" cy="55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$31,46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5704920" y="2572200"/>
                  <a:ext cx="1171800" cy="55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6877080" y="2572200"/>
                <a:ext cx="1953000" cy="550080"/>
                <a:chOff x="6877080" y="2572200"/>
                <a:chExt cx="1953000" cy="55008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6981840" y="2572200"/>
                  <a:ext cx="1743840" cy="55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129%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6877080" y="2572200"/>
                  <a:ext cx="1953000" cy="55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540360" y="3122640"/>
                <a:ext cx="3728520" cy="550080"/>
                <a:chOff x="540360" y="3122640"/>
                <a:chExt cx="3728520" cy="55008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645120" y="3122640"/>
                  <a:ext cx="3519000" cy="55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6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Library assistants, clerica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540360" y="3122640"/>
                  <a:ext cx="3728520" cy="55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4269240" y="3122640"/>
                <a:ext cx="1434960" cy="550080"/>
                <a:chOff x="4269240" y="3122640"/>
                <a:chExt cx="1434960" cy="55008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4374000" y="3122640"/>
                  <a:ext cx="1225440" cy="55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$23,608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4269240" y="3122640"/>
                  <a:ext cx="1434960" cy="55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5704920" y="3122640"/>
                <a:ext cx="1171800" cy="550080"/>
                <a:chOff x="5704920" y="3122640"/>
                <a:chExt cx="1171800" cy="55008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5808960" y="3122640"/>
                  <a:ext cx="963360" cy="55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$18,51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5704920" y="3122640"/>
                  <a:ext cx="1171800" cy="55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6877080" y="3122640"/>
                <a:ext cx="1953000" cy="550080"/>
                <a:chOff x="6877080" y="3122640"/>
                <a:chExt cx="1953000" cy="5500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6981840" y="3122640"/>
                  <a:ext cx="1743840" cy="55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128%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877080" y="3122640"/>
                  <a:ext cx="1953000" cy="55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540360" y="3673080"/>
                <a:ext cx="3728520" cy="687960"/>
                <a:chOff x="540360" y="3673080"/>
                <a:chExt cx="3728520" cy="68796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5120" y="3673080"/>
                  <a:ext cx="3519000" cy="68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Baggage porters, bellhops, and concierge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540360" y="3673080"/>
                  <a:ext cx="3728520" cy="687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4269240" y="3673080"/>
                <a:ext cx="1434960" cy="687960"/>
                <a:chOff x="4269240" y="3673080"/>
                <a:chExt cx="1434960" cy="68796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4374000" y="3673080"/>
                  <a:ext cx="1225440" cy="68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$26,468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4269240" y="3673080"/>
                  <a:ext cx="1434960" cy="687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5704920" y="3673080"/>
                <a:ext cx="1171800" cy="687960"/>
                <a:chOff x="5704920" y="3673080"/>
                <a:chExt cx="1171800" cy="68796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5808960" y="3673080"/>
                  <a:ext cx="963360" cy="68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$21,68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5704920" y="3673080"/>
                  <a:ext cx="1171800" cy="687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6877080" y="3673080"/>
                <a:ext cx="1953000" cy="687960"/>
                <a:chOff x="6877080" y="3673080"/>
                <a:chExt cx="1953000" cy="68796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6981840" y="3673080"/>
                  <a:ext cx="1743840" cy="68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122%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6877080" y="3673080"/>
                  <a:ext cx="1953000" cy="687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540360" y="4361040"/>
                <a:ext cx="3728520" cy="550080"/>
                <a:chOff x="540360" y="4361040"/>
                <a:chExt cx="3728520" cy="55008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645120" y="4361040"/>
                  <a:ext cx="3519000" cy="55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6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Financial analysts</a:t>
                  </a:r>
                  <a:r>
                    <a:rPr b="1" lang="it-IT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540360" y="4361040"/>
                  <a:ext cx="3728520" cy="55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4269240" y="4361040"/>
                <a:ext cx="1434960" cy="550080"/>
                <a:chOff x="4269240" y="4361040"/>
                <a:chExt cx="1434960" cy="55008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4374000" y="4361040"/>
                  <a:ext cx="1225440" cy="55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$69,00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4269240" y="4361040"/>
                  <a:ext cx="1434960" cy="55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5704920" y="4361040"/>
                <a:ext cx="1171800" cy="550080"/>
                <a:chOff x="5704920" y="4361040"/>
                <a:chExt cx="1171800" cy="55008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5808960" y="4361040"/>
                  <a:ext cx="963360" cy="55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$58,60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5704920" y="4361040"/>
                  <a:ext cx="1171800" cy="55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6877080" y="4361040"/>
                <a:ext cx="1953000" cy="550080"/>
                <a:chOff x="6877080" y="4361040"/>
                <a:chExt cx="1953000" cy="55008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6981840" y="4361040"/>
                  <a:ext cx="1743840" cy="55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118%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6877080" y="4361040"/>
                  <a:ext cx="1953000" cy="55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540360" y="4911480"/>
                <a:ext cx="3728520" cy="550440"/>
                <a:chOff x="540360" y="4911480"/>
                <a:chExt cx="3728520" cy="55044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645120" y="4911480"/>
                  <a:ext cx="3519000" cy="55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6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Aerospace enginee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540360" y="4911480"/>
                  <a:ext cx="3728520" cy="550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4269240" y="4911480"/>
                <a:ext cx="1434960" cy="550440"/>
                <a:chOff x="4269240" y="4911480"/>
                <a:chExt cx="1434960" cy="55044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4374000" y="4911480"/>
                  <a:ext cx="1225440" cy="55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$78,41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4269240" y="4911480"/>
                  <a:ext cx="1434960" cy="550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5704920" y="4911480"/>
                <a:ext cx="1171800" cy="550440"/>
                <a:chOff x="5704920" y="4911480"/>
                <a:chExt cx="1171800" cy="55044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5808960" y="4911480"/>
                  <a:ext cx="963360" cy="55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$70,35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5704920" y="4911480"/>
                  <a:ext cx="1171800" cy="550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6877080" y="4911480"/>
                <a:ext cx="1953000" cy="550440"/>
                <a:chOff x="6877080" y="4911480"/>
                <a:chExt cx="1953000" cy="55044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6981840" y="4911480"/>
                  <a:ext cx="1743840" cy="55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111%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877080" y="4911480"/>
                  <a:ext cx="1953000" cy="550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540360" y="5462280"/>
                <a:ext cx="3728520" cy="687600"/>
                <a:chOff x="540360" y="5462280"/>
                <a:chExt cx="3728520" cy="68760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645120" y="5462280"/>
                  <a:ext cx="3519000" cy="68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Human resources assistants, except payroll and timekeeping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540360" y="5462280"/>
                  <a:ext cx="3728520" cy="68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4269240" y="5462280"/>
                <a:ext cx="1434960" cy="687600"/>
                <a:chOff x="4269240" y="5462280"/>
                <a:chExt cx="1434960" cy="68760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4374000" y="5462280"/>
                  <a:ext cx="1225440" cy="68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$30,42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4269240" y="5462280"/>
                  <a:ext cx="1434960" cy="68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5704920" y="5462280"/>
                <a:ext cx="1171800" cy="687600"/>
                <a:chOff x="5704920" y="5462280"/>
                <a:chExt cx="1171800" cy="68760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5808960" y="5462280"/>
                  <a:ext cx="963360" cy="68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$28,028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5704920" y="5462280"/>
                  <a:ext cx="1171800" cy="68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6877080" y="5462280"/>
                <a:ext cx="1953000" cy="687600"/>
                <a:chOff x="6877080" y="5462280"/>
                <a:chExt cx="1953000" cy="68760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6981840" y="5462280"/>
                  <a:ext cx="1743840" cy="68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109%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6877080" y="5462280"/>
                  <a:ext cx="1953000" cy="68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540360" y="6150240"/>
                <a:ext cx="3728520" cy="550440"/>
                <a:chOff x="540360" y="6150240"/>
                <a:chExt cx="3728520" cy="55044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645120" y="6150240"/>
                  <a:ext cx="3519000" cy="55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6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Advertising and promotions manage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540360" y="6150240"/>
                  <a:ext cx="3728520" cy="550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4269240" y="6150240"/>
                <a:ext cx="1434960" cy="550440"/>
                <a:chOff x="4269240" y="6150240"/>
                <a:chExt cx="1434960" cy="55044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4374000" y="6150240"/>
                  <a:ext cx="1225440" cy="55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$42,068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4269240" y="6150240"/>
                  <a:ext cx="1434960" cy="550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5704920" y="6150240"/>
                <a:ext cx="1171800" cy="550440"/>
                <a:chOff x="5704920" y="6150240"/>
                <a:chExt cx="1171800" cy="55044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5808960" y="6150240"/>
                  <a:ext cx="963360" cy="55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$40,14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5704920" y="6150240"/>
                  <a:ext cx="1171800" cy="550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6877080" y="6150240"/>
                <a:ext cx="1953000" cy="550440"/>
                <a:chOff x="6877080" y="6150240"/>
                <a:chExt cx="1953000" cy="55044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6981840" y="6150240"/>
                  <a:ext cx="1743840" cy="55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105%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6877080" y="6150240"/>
                  <a:ext cx="1953000" cy="550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0" name=""/>
            <p:cNvSpPr/>
            <p:nvPr/>
          </p:nvSpPr>
          <p:spPr>
            <a:xfrm>
              <a:off x="533520" y="228600"/>
              <a:ext cx="8305200" cy="64771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Kristen ITC"/>
              </a:rPr>
              <a:t>The pay gap is the different between the avarage salary of women and the averege salery of m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Kristen ITC"/>
              </a:rPr>
              <a:t>The pay gap between women and men, considering part time and full time workwers, is 21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Kristen ITC"/>
              </a:rPr>
              <a:t>The reason for this difference of salary is dispu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Kristen ITC"/>
              </a:rPr>
              <a:t>This come from an old.age tradition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ff"/>
            </a:gs>
            <a:gs pos="100000">
              <a:srgbClr val="99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80520" y="456840"/>
            <a:ext cx="80773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Kristen ITC"/>
              </a:rPr>
              <a:t>1960 newspeapers published separated job listings for men and women and so jobs were categorized according to sex , with thi higher level jobs listed almost exclusively under “Help Wanted male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Kristen ITC"/>
              </a:rPr>
              <a:t>1965 the legislated minimum wage was lower for women than for 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Kristen ITC"/>
              </a:rPr>
              <a:t>1970 employers were prohibited from advertising for a man or a woman in job op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Kristen ITC"/>
              </a:rPr>
              <a:t>2005 Census Statics shows great income inequity between sexes among all races :a white male made 48%more than a withe fema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5e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440" y="304920"/>
            <a:ext cx="80010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Kristen ITC"/>
              </a:rPr>
              <a:t>Times have changed....somew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Kristen ITC"/>
              </a:rPr>
              <a:t>Men and women donig the same work will get equal p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Kristen ITC"/>
              </a:rPr>
              <a:t>Women’s education levels match men’s, women are much more present today in male-dominated occupations, in jobs with higher levels of responsability and in the ionizioned public s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7093d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84872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Kristen ITC"/>
              </a:rPr>
              <a:t>Why do women still earn less than m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Kristen ITC"/>
              </a:rPr>
              <a:t>First of all noccupational segregation refers to the way that some jobs ( such as truck drivers) are dominated by men, and other jobs( such as child care) are dominated by wom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Kristen ITC"/>
              </a:rPr>
              <a:t>Because jobs dominated by women are lower-paying than men,occupational choise is an important cause of the gender g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eb58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440" y="304920"/>
            <a:ext cx="807732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Kristen ITC"/>
              </a:rPr>
              <a:t>Furthermore women with children are less likely to be hired and if hired would be paid a lower salary then male applica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Kristen ITC"/>
              </a:rPr>
              <a:t>Among the big  differnces between women’s and men’s work choises, are that “women as a rule don’t work as many hours because their obligations tend to be more divided : in fact they are obliged to do their home oblig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Kristen ITC"/>
              </a:rPr>
              <a:t>Someone sometimes think that women are working for “pin money” to suplement the main wage of rhe male , who works for “bred winne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Kristen ITC"/>
              </a:rPr>
              <a:t>Compared to men women generally favour jobs that involve little danger, no travel and good social skills, and such jobs are generally payed l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Kristen ITC"/>
              </a:rPr>
              <a:t>Men are more likely to meke life decisions that will lead to a higher annual salary , are more     to travel for work, take on more dangerouse jo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dafe"/>
            </a:gs>
            <a:gs pos="100000">
              <a:srgbClr val="00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440" y="228600"/>
            <a:ext cx="8001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Kristen ITC"/>
              </a:rPr>
              <a:t>Some feminists argue that the most dangerous jobs in the U.S are not necessarily “male”, but most often very low- paid jobs,generally performed by immigr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Kristen ITC"/>
              </a:rPr>
              <a:t>Many consewrvatives would argue that difference in pay reflects a tendency of women to choose loe.wage jobs bacuse women prefer less dangerous or more flexible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Kristen ITC"/>
              </a:rPr>
              <a:t>Many liberals would argue that discrimination by employers and sexis social expectations tend to give to women lower-paying occupation and to men higher-payed occup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0606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001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Kristen ITC"/>
              </a:rPr>
              <a:t>But if you think that men always tend to earn more than women, you are wr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Kristen ITC"/>
              </a:rPr>
              <a:t>Some potions where women tend to earn more than men includes sales ingeneers, automaotive technicians, financial analysts,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Kristen ITC"/>
              </a:rPr>
              <a:t>To get value for jobs we need pay equity , that  means that jobs should be paid based on their value , whether he is woman or m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533520" y="2895480"/>
            <a:ext cx="7924320" cy="3810240"/>
            <a:chOff x="533520" y="2895480"/>
            <a:chExt cx="7924320" cy="3810240"/>
          </a:xfrm>
        </p:grpSpPr>
        <p:grpSp>
          <p:nvGrpSpPr>
            <p:cNvPr id="51" name=""/>
            <p:cNvGrpSpPr/>
            <p:nvPr/>
          </p:nvGrpSpPr>
          <p:grpSpPr>
            <a:xfrm>
              <a:off x="540360" y="2897640"/>
              <a:ext cx="7909560" cy="3804840"/>
              <a:chOff x="540360" y="2897640"/>
              <a:chExt cx="7909560" cy="3804840"/>
            </a:xfrm>
          </p:grpSpPr>
          <p:grpSp>
            <p:nvGrpSpPr>
              <p:cNvPr id="52" name=""/>
              <p:cNvGrpSpPr/>
              <p:nvPr/>
            </p:nvGrpSpPr>
            <p:grpSpPr>
              <a:xfrm>
                <a:off x="540360" y="2897640"/>
                <a:ext cx="3557520" cy="404640"/>
                <a:chOff x="540360" y="2897640"/>
                <a:chExt cx="3557520" cy="40464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640080" y="2897640"/>
                  <a:ext cx="3357720" cy="40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6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Fiel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40360" y="2897640"/>
                  <a:ext cx="3557520" cy="404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" name=""/>
              <p:cNvGrpSpPr/>
              <p:nvPr/>
            </p:nvGrpSpPr>
            <p:grpSpPr>
              <a:xfrm>
                <a:off x="4098240" y="2897640"/>
                <a:ext cx="1369080" cy="404640"/>
                <a:chOff x="4098240" y="2897640"/>
                <a:chExt cx="1369080" cy="404640"/>
              </a:xfrm>
            </p:grpSpPr>
            <p:sp>
              <p:nvSpPr>
                <p:cNvPr id="56" name=""/>
                <p:cNvSpPr/>
                <p:nvPr/>
              </p:nvSpPr>
              <p:spPr>
                <a:xfrm>
                  <a:off x="4197960" y="2897640"/>
                  <a:ext cx="1169280" cy="40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Women’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4098240" y="2897640"/>
                  <a:ext cx="1369080" cy="404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" name=""/>
              <p:cNvGrpSpPr/>
              <p:nvPr/>
            </p:nvGrpSpPr>
            <p:grpSpPr>
              <a:xfrm>
                <a:off x="5468040" y="2897640"/>
                <a:ext cx="1117800" cy="404640"/>
                <a:chOff x="5468040" y="2897640"/>
                <a:chExt cx="1117800" cy="40464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5567400" y="2897640"/>
                  <a:ext cx="919080" cy="40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Men’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5468040" y="2897640"/>
                  <a:ext cx="1117800" cy="404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"/>
              <p:cNvGrpSpPr/>
              <p:nvPr/>
            </p:nvGrpSpPr>
            <p:grpSpPr>
              <a:xfrm>
                <a:off x="6586560" y="2897640"/>
                <a:ext cx="1863360" cy="404640"/>
                <a:chOff x="6586560" y="2897640"/>
                <a:chExt cx="1863360" cy="40464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6686280" y="2897640"/>
                  <a:ext cx="1663920" cy="40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Women’s Pay as % of Men’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6586560" y="2897640"/>
                  <a:ext cx="1863360" cy="404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" name=""/>
              <p:cNvGrpSpPr/>
              <p:nvPr/>
            </p:nvGrpSpPr>
            <p:grpSpPr>
              <a:xfrm>
                <a:off x="540360" y="3302280"/>
                <a:ext cx="3557520" cy="323640"/>
                <a:chOff x="540360" y="3302280"/>
                <a:chExt cx="3557520" cy="32364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640080" y="3302280"/>
                  <a:ext cx="3357720" cy="3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6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Sales enginee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540360" y="3302280"/>
                  <a:ext cx="3557520" cy="32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" name=""/>
              <p:cNvGrpSpPr/>
              <p:nvPr/>
            </p:nvGrpSpPr>
            <p:grpSpPr>
              <a:xfrm>
                <a:off x="4098240" y="3302280"/>
                <a:ext cx="1369080" cy="323640"/>
                <a:chOff x="4098240" y="3302280"/>
                <a:chExt cx="1369080" cy="32364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4197960" y="3302280"/>
                  <a:ext cx="1169280" cy="3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$89,908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4098240" y="3302280"/>
                  <a:ext cx="1369080" cy="32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" name=""/>
              <p:cNvGrpSpPr/>
              <p:nvPr/>
            </p:nvGrpSpPr>
            <p:grpSpPr>
              <a:xfrm>
                <a:off x="5468040" y="3302280"/>
                <a:ext cx="1117800" cy="323640"/>
                <a:chOff x="5468040" y="3302280"/>
                <a:chExt cx="1117800" cy="3236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5567400" y="3302280"/>
                  <a:ext cx="919080" cy="3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$62,66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5468040" y="3302280"/>
                  <a:ext cx="1117800" cy="32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6586560" y="3302280"/>
                <a:ext cx="1863360" cy="323640"/>
                <a:chOff x="6586560" y="3302280"/>
                <a:chExt cx="1863360" cy="32364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6686280" y="3302280"/>
                  <a:ext cx="1663920" cy="3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143%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6586560" y="3302280"/>
                  <a:ext cx="1863360" cy="32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540360" y="3626280"/>
                <a:ext cx="3557520" cy="323640"/>
                <a:chOff x="540360" y="3626280"/>
                <a:chExt cx="3557520" cy="32364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640080" y="3626280"/>
                  <a:ext cx="3357720" cy="3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6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Statistician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40360" y="3626280"/>
                  <a:ext cx="3557520" cy="32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4098240" y="3626280"/>
                <a:ext cx="1369080" cy="323640"/>
                <a:chOff x="4098240" y="3626280"/>
                <a:chExt cx="1369080" cy="32364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4197960" y="3626280"/>
                  <a:ext cx="1169280" cy="3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$49,14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4098240" y="3626280"/>
                  <a:ext cx="1369080" cy="32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5468040" y="3626280"/>
                <a:ext cx="1117800" cy="323640"/>
                <a:chOff x="5468040" y="3626280"/>
                <a:chExt cx="1117800" cy="32364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5567400" y="3626280"/>
                  <a:ext cx="919080" cy="3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$36,29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5468040" y="3626280"/>
                  <a:ext cx="1117800" cy="32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6586560" y="3626280"/>
                <a:ext cx="1863360" cy="323640"/>
                <a:chOff x="6586560" y="3626280"/>
                <a:chExt cx="1863360" cy="32364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6686280" y="3626280"/>
                  <a:ext cx="1663920" cy="3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135%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6586560" y="3626280"/>
                  <a:ext cx="1863360" cy="32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540360" y="3949920"/>
                <a:ext cx="3557520" cy="323640"/>
                <a:chOff x="540360" y="3949920"/>
                <a:chExt cx="3557520" cy="32364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640080" y="3949920"/>
                  <a:ext cx="3357720" cy="3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6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Legislato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540360" y="3949920"/>
                  <a:ext cx="3557520" cy="32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4098240" y="3949920"/>
                <a:ext cx="1369080" cy="323640"/>
                <a:chOff x="4098240" y="3949920"/>
                <a:chExt cx="1369080" cy="32364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4197960" y="3949920"/>
                  <a:ext cx="1169280" cy="3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$43,31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4098240" y="3949920"/>
                  <a:ext cx="1369080" cy="32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5468040" y="3949920"/>
                <a:ext cx="1117800" cy="323640"/>
                <a:chOff x="5468040" y="3949920"/>
                <a:chExt cx="1117800" cy="32364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5567400" y="3949920"/>
                  <a:ext cx="919080" cy="3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$32,65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5468040" y="3949920"/>
                  <a:ext cx="1117800" cy="32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6586560" y="3949920"/>
                <a:ext cx="1863360" cy="323640"/>
                <a:chOff x="6586560" y="3949920"/>
                <a:chExt cx="1863360" cy="32364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6686280" y="3949920"/>
                  <a:ext cx="1663920" cy="3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133%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6586560" y="3949920"/>
                  <a:ext cx="1863360" cy="32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540360" y="4273920"/>
                <a:ext cx="3557520" cy="323640"/>
                <a:chOff x="540360" y="4273920"/>
                <a:chExt cx="3557520" cy="32364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640080" y="4273920"/>
                  <a:ext cx="3357720" cy="3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2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Automotive technicians and mechanic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540360" y="4273920"/>
                  <a:ext cx="3557520" cy="32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4098240" y="4273920"/>
                <a:ext cx="1369080" cy="323640"/>
                <a:chOff x="4098240" y="4273920"/>
                <a:chExt cx="1369080" cy="32364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4197960" y="4273920"/>
                  <a:ext cx="1169280" cy="3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$40,66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4098240" y="4273920"/>
                  <a:ext cx="1369080" cy="32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5468040" y="4273920"/>
                <a:ext cx="1117800" cy="323640"/>
                <a:chOff x="5468040" y="4273920"/>
                <a:chExt cx="1117800" cy="32364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5567400" y="4273920"/>
                  <a:ext cx="919080" cy="3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$31,46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5468040" y="4273920"/>
                  <a:ext cx="1117800" cy="32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6586560" y="4273920"/>
                <a:ext cx="1863360" cy="323640"/>
                <a:chOff x="6586560" y="4273920"/>
                <a:chExt cx="1863360" cy="3236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6686280" y="4273920"/>
                  <a:ext cx="1663920" cy="3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129%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6586560" y="4273920"/>
                  <a:ext cx="1863360" cy="32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540360" y="4597560"/>
                <a:ext cx="3557520" cy="323640"/>
                <a:chOff x="540360" y="4597560"/>
                <a:chExt cx="3557520" cy="32364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640080" y="4597560"/>
                  <a:ext cx="3357720" cy="3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4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Library assistants, clerica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540360" y="4597560"/>
                  <a:ext cx="3557520" cy="32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4098240" y="4597560"/>
                <a:ext cx="1369080" cy="323640"/>
                <a:chOff x="4098240" y="4597560"/>
                <a:chExt cx="1369080" cy="32364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4197960" y="4597560"/>
                  <a:ext cx="1169280" cy="3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$23,608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4098240" y="4597560"/>
                  <a:ext cx="1369080" cy="32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5468040" y="4597560"/>
                <a:ext cx="1117800" cy="323640"/>
                <a:chOff x="5468040" y="4597560"/>
                <a:chExt cx="1117800" cy="32364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5567400" y="4597560"/>
                  <a:ext cx="919080" cy="3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$18,51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468040" y="4597560"/>
                  <a:ext cx="1117800" cy="32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6586560" y="4597560"/>
                <a:ext cx="1863360" cy="323640"/>
                <a:chOff x="6586560" y="4597560"/>
                <a:chExt cx="1863360" cy="32364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6686280" y="4597560"/>
                  <a:ext cx="1663920" cy="3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128%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6586560" y="4597560"/>
                  <a:ext cx="1863360" cy="32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540360" y="4921560"/>
                <a:ext cx="3557520" cy="404640"/>
                <a:chOff x="540360" y="4921560"/>
                <a:chExt cx="3557520" cy="40464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640080" y="4921560"/>
                  <a:ext cx="3357720" cy="40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Baggage porters, bellhops, and concierg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540360" y="4921560"/>
                  <a:ext cx="3557520" cy="404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4098240" y="4921560"/>
                <a:ext cx="1369080" cy="404640"/>
                <a:chOff x="4098240" y="4921560"/>
                <a:chExt cx="1369080" cy="40464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4197960" y="4921560"/>
                  <a:ext cx="1169280" cy="40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$26,468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4098240" y="4921560"/>
                  <a:ext cx="1369080" cy="404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5468040" y="4921560"/>
                <a:ext cx="1117800" cy="404640"/>
                <a:chOff x="5468040" y="4921560"/>
                <a:chExt cx="1117800" cy="40464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5567400" y="4921560"/>
                  <a:ext cx="919080" cy="40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$21,68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5468040" y="4921560"/>
                  <a:ext cx="1117800" cy="404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6586560" y="4921560"/>
                <a:ext cx="1863360" cy="404640"/>
                <a:chOff x="6586560" y="4921560"/>
                <a:chExt cx="1863360" cy="40464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6686280" y="4921560"/>
                  <a:ext cx="1663920" cy="40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122%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6586560" y="4921560"/>
                  <a:ext cx="1863360" cy="404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540360" y="5326200"/>
                <a:ext cx="3557520" cy="323640"/>
                <a:chOff x="540360" y="5326200"/>
                <a:chExt cx="3557520" cy="32364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640080" y="5326200"/>
                  <a:ext cx="3357720" cy="3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6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Financial analysts</a:t>
                  </a:r>
                  <a:r>
                    <a:rPr b="1" lang="it-IT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540360" y="5326200"/>
                  <a:ext cx="3557520" cy="32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4098240" y="5326200"/>
                <a:ext cx="1369080" cy="323640"/>
                <a:chOff x="4098240" y="5326200"/>
                <a:chExt cx="1369080" cy="32364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4197960" y="5326200"/>
                  <a:ext cx="1169280" cy="3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$69,00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098240" y="5326200"/>
                  <a:ext cx="1369080" cy="32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5468040" y="5326200"/>
                <a:ext cx="1117800" cy="323640"/>
                <a:chOff x="5468040" y="5326200"/>
                <a:chExt cx="1117800" cy="32364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5567400" y="5326200"/>
                  <a:ext cx="919080" cy="3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$58,60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468040" y="5326200"/>
                  <a:ext cx="1117800" cy="32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6586560" y="5326200"/>
                <a:ext cx="1863360" cy="323640"/>
                <a:chOff x="6586560" y="5326200"/>
                <a:chExt cx="1863360" cy="32364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686280" y="5326200"/>
                  <a:ext cx="1663920" cy="3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118%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586560" y="5326200"/>
                  <a:ext cx="1863360" cy="32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540360" y="5650200"/>
                <a:ext cx="3557520" cy="323640"/>
                <a:chOff x="540360" y="5650200"/>
                <a:chExt cx="3557520" cy="32364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640080" y="5650200"/>
                  <a:ext cx="3357720" cy="3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6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Aerospace enginee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40360" y="5650200"/>
                  <a:ext cx="3557520" cy="32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4098240" y="5650200"/>
                <a:ext cx="1369080" cy="323640"/>
                <a:chOff x="4098240" y="5650200"/>
                <a:chExt cx="1369080" cy="32364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4197960" y="5650200"/>
                  <a:ext cx="1169280" cy="3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$78,41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098240" y="5650200"/>
                  <a:ext cx="1369080" cy="32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5468040" y="5650200"/>
                <a:ext cx="1117800" cy="323640"/>
                <a:chOff x="5468040" y="5650200"/>
                <a:chExt cx="1117800" cy="32364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5567400" y="5650200"/>
                  <a:ext cx="919080" cy="3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$70,35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468040" y="5650200"/>
                  <a:ext cx="1117800" cy="32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6586560" y="5650200"/>
                <a:ext cx="1863360" cy="323640"/>
                <a:chOff x="6586560" y="5650200"/>
                <a:chExt cx="1863360" cy="32364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6686280" y="5650200"/>
                  <a:ext cx="1663920" cy="3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111%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6586560" y="5650200"/>
                  <a:ext cx="1863360" cy="32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540360" y="5974200"/>
                <a:ext cx="3557520" cy="404640"/>
                <a:chOff x="540360" y="5974200"/>
                <a:chExt cx="3557520" cy="40464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640080" y="5974200"/>
                  <a:ext cx="3357720" cy="40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Human resources assistants, except payroll and timekeep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540360" y="5974200"/>
                  <a:ext cx="3557520" cy="404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4098240" y="5974200"/>
                <a:ext cx="1369080" cy="404640"/>
                <a:chOff x="4098240" y="5974200"/>
                <a:chExt cx="1369080" cy="40464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4197960" y="5974200"/>
                  <a:ext cx="1169280" cy="40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$30,42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098240" y="5974200"/>
                  <a:ext cx="1369080" cy="404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5468040" y="5974200"/>
                <a:ext cx="1117800" cy="404640"/>
                <a:chOff x="5468040" y="5974200"/>
                <a:chExt cx="1117800" cy="40464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5567400" y="5974200"/>
                  <a:ext cx="919080" cy="40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$28,028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5468040" y="5974200"/>
                  <a:ext cx="1117800" cy="404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6586560" y="5974200"/>
                <a:ext cx="1863360" cy="404640"/>
                <a:chOff x="6586560" y="5974200"/>
                <a:chExt cx="1863360" cy="4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6686280" y="5974200"/>
                  <a:ext cx="1663920" cy="40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109%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6586560" y="5974200"/>
                  <a:ext cx="1863360" cy="404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540360" y="6378840"/>
                <a:ext cx="3557520" cy="323640"/>
                <a:chOff x="540360" y="6378840"/>
                <a:chExt cx="3557520" cy="3236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40080" y="6378840"/>
                  <a:ext cx="3357720" cy="3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2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Advertising and promotions manager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540360" y="6378840"/>
                  <a:ext cx="3557520" cy="32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4098240" y="6378840"/>
                <a:ext cx="1369080" cy="323640"/>
                <a:chOff x="4098240" y="6378840"/>
                <a:chExt cx="1369080" cy="323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4197960" y="6378840"/>
                  <a:ext cx="1169280" cy="3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$42,068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4098240" y="6378840"/>
                  <a:ext cx="1369080" cy="32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5468040" y="6378840"/>
                <a:ext cx="1117800" cy="323640"/>
                <a:chOff x="5468040" y="6378840"/>
                <a:chExt cx="1117800" cy="32364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5567400" y="6378840"/>
                  <a:ext cx="919080" cy="3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$40,14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5468040" y="6378840"/>
                  <a:ext cx="1117800" cy="32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6586560" y="6378840"/>
                <a:ext cx="1863360" cy="323640"/>
                <a:chOff x="6586560" y="6378840"/>
                <a:chExt cx="1863360" cy="32364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6686280" y="6378840"/>
                  <a:ext cx="1663920" cy="32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ndara"/>
                      <a:ea typeface="Times New Roman"/>
                    </a:rPr>
                    <a:t>105%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6586560" y="6378840"/>
                  <a:ext cx="1863360" cy="32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4" name=""/>
            <p:cNvSpPr/>
            <p:nvPr/>
          </p:nvSpPr>
          <p:spPr>
            <a:xfrm>
              <a:off x="533520" y="2895480"/>
              <a:ext cx="7924320" cy="38102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1866960" y="701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2T17:40:25Z</dcterms:created>
  <dc:creator> </dc:creator>
  <dc:description/>
  <dc:language>en-US</dc:language>
  <cp:lastModifiedBy> </cp:lastModifiedBy>
  <dcterms:modified xsi:type="dcterms:W3CDTF">2009-05-22T20:54:16Z</dcterms:modified>
  <cp:revision>2</cp:revision>
  <dc:subject/>
  <dc:title>The pay gap</dc:title>
</cp:coreProperties>
</file>